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96C4-52CF-4C64-A75D-0D42EE009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4F18-113C-4558-8D3D-FFE363B0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0986-2638-4AF1-A2AE-ABDB1CFDB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9BAD-A89D-4799-B0C7-156B0A5D3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DA88-206D-46CD-9730-3A054DEE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5D65-7A5B-4948-82C0-5DEEB17A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E89A-AC32-4E1C-B7BB-B4AA8845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53BB-E92C-4D4D-9859-8446FCFD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B9E4-6118-4CE0-82EA-1DC31607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0E97-AA06-48CC-A636-AC178A7E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E394-04BE-4241-9315-D7BC0ECC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2077-9012-4FEB-937F-CA058D5E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E1C1-FA73-4B4A-9F7A-BAE2617D5F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76360" y="1218960"/>
            <a:ext cx="5181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l’eco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xercices de vocabul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iveau A1 – classe V e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C:\Program Files\Microsoft Office\MEDIA\CAGCAT10\j0301252.wmf"/>
          <p:cNvPicPr/>
          <p:nvPr/>
        </p:nvPicPr>
        <p:blipFill>
          <a:blip r:embed="rId1"/>
          <a:stretch/>
        </p:blipFill>
        <p:spPr>
          <a:xfrm>
            <a:off x="380880" y="304920"/>
            <a:ext cx="3384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ts dans la salle de clas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. Cochez les bonnes repons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ns une salle de classe nous pouvons observe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 professeu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 tableau noi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 cahi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 fleu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 stylos a bil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 gateau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 rapporteu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 lat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ez les objets et leurs no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 professeur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 tableau no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 cah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 manu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 stylos a bi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 cray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 rapporte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 lat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latte.jpg"/>
          <p:cNvPicPr/>
          <p:nvPr/>
        </p:nvPicPr>
        <p:blipFill>
          <a:blip r:embed="rId1"/>
          <a:stretch/>
        </p:blipFill>
        <p:spPr>
          <a:xfrm>
            <a:off x="5867280" y="1295280"/>
            <a:ext cx="1650960" cy="165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professeur.jpg"/>
          <p:cNvPicPr/>
          <p:nvPr/>
        </p:nvPicPr>
        <p:blipFill>
          <a:blip r:embed="rId2"/>
          <a:stretch/>
        </p:blipFill>
        <p:spPr>
          <a:xfrm>
            <a:off x="6019920" y="1600200"/>
            <a:ext cx="850680" cy="1168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rapporteur.jpg"/>
          <p:cNvPicPr/>
          <p:nvPr/>
        </p:nvPicPr>
        <p:blipFill>
          <a:blip r:embed="rId3"/>
          <a:stretch/>
        </p:blipFill>
        <p:spPr>
          <a:xfrm>
            <a:off x="6019920" y="3962520"/>
            <a:ext cx="1193760" cy="635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stylo.jpg"/>
          <p:cNvPicPr/>
          <p:nvPr/>
        </p:nvPicPr>
        <p:blipFill>
          <a:blip r:embed="rId4"/>
          <a:stretch/>
        </p:blipFill>
        <p:spPr>
          <a:xfrm>
            <a:off x="6019920" y="2819520"/>
            <a:ext cx="622080" cy="1054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tableau.jpg"/>
          <p:cNvPicPr/>
          <p:nvPr/>
        </p:nvPicPr>
        <p:blipFill>
          <a:blip r:embed="rId5"/>
          <a:stretch/>
        </p:blipFill>
        <p:spPr>
          <a:xfrm>
            <a:off x="6172200" y="4724280"/>
            <a:ext cx="97776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bliograph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nceza – Vocabular – Exercitii, ed. Booklet, Bucuresti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8T19:19:27Z</dcterms:created>
  <dc:creator>Anda</dc:creator>
  <dc:description/>
  <dc:language>en-US</dc:language>
  <cp:lastModifiedBy>Anda</cp:lastModifiedBy>
  <dcterms:modified xsi:type="dcterms:W3CDTF">2012-12-12T20:23:52Z</dcterms:modified>
  <cp:revision>5</cp:revision>
  <dc:subject/>
  <dc:title>L’ecole</dc:title>
</cp:coreProperties>
</file>